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32A-A606-47BF-8CDF-B0904408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F1C-6237-4365-B3A9-5F78FEDA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2F9-9666-46FC-A9FF-99852F92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456-0FE3-45E0-BC84-61FE98D9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1387-3EC0-4883-BF9F-F54FDF3C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073F-85C1-4DA7-AA5F-BA4D9171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4952-4676-43B4-99C1-C67C5044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60C1-7EE9-443B-820E-C5AD978E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C9CE-6274-4B9E-A595-BC7188E2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E19F-BA47-46C1-96A4-59F05D0F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D5AA-574C-4B3C-B23A-89D76ACB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D40-76F0-4A07-8C3F-4805908B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BE82-92A5-4F75-99CA-6EDBCAF1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ADC9-8264-4CF8-BCDB-BD36CCA5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F703-7B2B-460B-98D2-8147F8B8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2BA3-4C48-4F60-ACB7-ADFA5883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40F3-803E-4163-8EB6-09C3A05E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483-85FF-4576-A618-779C2CBD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41E-919F-4E5A-8D54-82D4E72C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EDB-0775-494C-A98A-EDB49157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2AD-C5E8-4C8A-A8F6-6A400CCA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D79-09C0-42EF-AB51-B1A325C2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282-CB87-47A5-97A3-64C8DEBD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CDE-1BEC-42F4-82BE-9E2EC28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B174-E96B-4278-8408-7BF265A08800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A7DE-CD87-44B4-9EDC-7342BFD4F071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BWÓD PROSTOKĄ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I KWADRA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OBWODU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3240" y="1120320"/>
            <a:ext cx="82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licz obwód prostokąta o długośc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6 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4 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oblicz sumę długości jego bok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81280" y="1494000"/>
          <a:ext cx="409572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494000"/>
                    <a:ext cx="409572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213560" y="405216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B| + |BC| + |CD| + |AD| = 6 cm + 4 cm + 6 cm + 4 cm = 20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04840" y="4507920"/>
            <a:ext cx="64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85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. Suma długości boków prostokąta  jest równa 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20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040" y="5261040"/>
            <a:ext cx="79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niose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a długości boków prostokąta jest jeg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bwod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OBWODU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8200" y="1120320"/>
            <a:ext cx="71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znaczmy długości boków prostokąta przez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obliczmy jego obwó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2640" y="3774240"/>
            <a:ext cx="45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Obwód = a + b + a + b = a + a + b +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2680" y="4231440"/>
            <a:ext cx="79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85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my już, że obwód prostokąta jest równy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2 • długość + 2 • szerok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2000" y="1403280"/>
          <a:ext cx="40608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2000" y="1403280"/>
                    <a:ext cx="40608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692360" y="4866840"/>
            <a:ext cx="57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wód = 2 · a + 2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wód przyjęto oznaczać przez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ąd ma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= 2 · a + 2 ·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2000" y="1105920"/>
            <a:ext cx="33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pisz obwody prostoką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24200" y="1665360"/>
          <a:ext cx="264780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4200" y="1665360"/>
                    <a:ext cx="26478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BLICZANIE OBWODU KWADRA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8200" y="1120320"/>
            <a:ext cx="71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znaczmy długości boków prostokąta przez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 obliczmy jego obwó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72480" y="406620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O = a + a + a +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640" y="4906080"/>
            <a:ext cx="74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85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dawanie jednakowych składników możemy zastąpić mnożeni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6640" y="5542560"/>
            <a:ext cx="31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= 4 ·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357720" y="1569960"/>
          <a:ext cx="230796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1569960"/>
                    <a:ext cx="230796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000" y="110592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pisz obwody kwadra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637000" y="1719360"/>
          <a:ext cx="1473120" cy="48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7000" y="1719360"/>
                    <a:ext cx="1473120" cy="48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7:22Z</dcterms:modified>
  <cp:revision>48</cp:revision>
  <dc:subject/>
  <dc:title>Slajd 1</dc:title>
</cp:coreProperties>
</file>